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5201-6762-4574-A295-03CA0D57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F46-C0BD-4743-92D4-ACE2A94A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71C0-12B8-40BF-AF97-3C87FC4E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911-F249-4D14-8388-C107ECE98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DB5E-9246-427E-84AB-F468E90E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9136-E094-43B6-A342-5B9923BE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7A7D-C455-4CB5-A69D-DCA9C0B5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1EBD-3A31-4FE3-A4E7-45473EFC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E140-613D-49C4-A78F-DFAF27F1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7D70-C632-4E60-8C6B-CD963E00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79CE-D864-4E48-AB6D-75335C57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BF0-EC14-4259-B9F8-22303CE1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25F5-D1ED-4672-A141-79EC6C2CF7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E:\картинки с шаттерстока\shutterstock_29965945.jpg"/>
          <p:cNvPicPr/>
          <p:nvPr/>
        </p:nvPicPr>
        <p:blipFill>
          <a:blip r:embed="rId2"/>
          <a:stretch/>
        </p:blipFill>
        <p:spPr>
          <a:xfrm>
            <a:off x="-30240" y="92160"/>
            <a:ext cx="9174240" cy="6765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E:\картинки с шаттерстока\shutterstock_30833740.jpg"/>
          <p:cNvPicPr/>
          <p:nvPr/>
        </p:nvPicPr>
        <p:blipFill>
          <a:blip r:embed="rId3"/>
          <a:stretch/>
        </p:blipFill>
        <p:spPr>
          <a:xfrm>
            <a:off x="3348000" y="0"/>
            <a:ext cx="4257720" cy="25527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10"/>
          <p:cNvSpPr/>
          <p:nvPr/>
        </p:nvSpPr>
        <p:spPr>
          <a:xfrm>
            <a:off x="2843280" y="1484280"/>
            <a:ext cx="5904000" cy="4465800"/>
          </a:xfrm>
          <a:prstGeom prst="rect">
            <a:avLst/>
          </a:prstGeom>
          <a:solidFill>
            <a:srgbClr val="00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ff"/>
                </a:solidFill>
                <a:latin typeface="Times New Roman"/>
              </a:rPr>
              <a:t>НАУЧНО-МЕТОДИЧЕСКОЕ  СОПРОВО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ff"/>
                </a:solidFill>
                <a:latin typeface="Times New Roman"/>
              </a:rPr>
              <a:t>И  ПОДДЕРЖКА  МОЛОДЫХ ПЕДАГ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9"/>
          <p:cNvSpPr/>
          <p:nvPr/>
        </p:nvSpPr>
        <p:spPr>
          <a:xfrm>
            <a:off x="4427640" y="189000"/>
            <a:ext cx="2305080" cy="936360"/>
          </a:xfrm>
          <a:prstGeom prst="roundRect">
            <a:avLst>
              <a:gd name="adj" fmla="val 16667"/>
            </a:avLst>
          </a:prstGeom>
          <a:solidFill>
            <a:srgbClr val="6600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Times New Roman"/>
              </a:rPr>
              <a:t>Семинар-совещ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ff"/>
                </a:solidFill>
                <a:latin typeface="Times New Roman"/>
              </a:rPr>
              <a:t>Виды и формы поддерж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♦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дение мониторинговых исследований качества деятельности территориальных Шко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❖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трудничество в разработке целевых программ, проектов, планов Шко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♦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тнерство в реализации содержания, деятельности Шко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♦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но-методическое сопровождение развития Школ, повышение качества эффективности и доступности их работы, инновационной направленности и продуктивной деятельности Шко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❖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заимодействие в построении индивидуально-личностных траекторий профессионального развития молодых педагогов в составе Шко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❖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ключение Школ в региональный кластер эффективных систем в целях консолидации и развития креативности в деятельности Школ и их участник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Times New Roman"/>
              </a:rPr>
              <a:t>Формируемая профессиональная компетентность</a:t>
            </a:r>
            <a:r>
              <a:rPr b="1" i="1" lang="ru-RU" sz="2800" spc="-1" strike="noStrike">
                <a:solidFill>
                  <a:srgbClr val="cc99ff"/>
                </a:solidFill>
                <a:latin typeface="Times New Roman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❖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фере развития личностных качеств, саморазвит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❖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выявлении ценностного аспекта учебного знания, обеспечение его понимания и пережи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❖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формировании мотивации обучающихся к обучению и достижении личностных результа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❖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формировании универсальных учебных действий и достижении предметных и метапредметных результа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❖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применении психолого-педагогических технолог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Times New Roman"/>
              </a:rPr>
              <a:t>Система сетевого взаимодейств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ожет включа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знообразные контакты всех участников Школ с региональным куратором и специалистами института. Это телефонные беседы и скайп-общение, обсуждение планов работы, трудностей, необходимой помощи; установление конференц-связи для обсуждения общих вопросов; проведение вебинаров по обмену опытом и другие виды IT-взаимодействия. Активизация страницы «У истоков профессии» на сайте института с целью передачи необходимой информ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заимодейств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олодых учителей, участников программы, между собой для обмена опытом и выполнения групповых проектов (обмен адресами электронной почты и скайпа) и презентацию лучших творческих проектов на сайте института и сайтах территориальных Школ молодого учител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Arial"/>
              </a:rPr>
              <a:t>Структурная модель муниципальной</a:t>
            </a:r>
            <a:br>
              <a:rPr sz="2800"/>
            </a:br>
            <a:r>
              <a:rPr b="1" lang="ru-RU" sz="2800" spc="-1" strike="noStrike">
                <a:solidFill>
                  <a:srgbClr val="cc99ff"/>
                </a:solidFill>
                <a:latin typeface="Arial"/>
              </a:rPr>
              <a:t> Школы молодого педаг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214280"/>
            <a:ext cx="8229600" cy="5072400"/>
          </a:xfrm>
          <a:prstGeom prst="rect">
            <a:avLst/>
          </a:prstGeom>
          <a:ln w="0">
            <a:noFill/>
          </a:ln>
        </p:spPr>
      </p:pic>
      <p:sp>
        <p:nvSpPr>
          <p:cNvPr id="86" name="Блок-схема: альтернативный процесс 3"/>
          <p:cNvSpPr/>
          <p:nvPr/>
        </p:nvSpPr>
        <p:spPr>
          <a:xfrm>
            <a:off x="4500720" y="3143160"/>
            <a:ext cx="45720" cy="460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4"/>
          <p:cNvSpPr/>
          <p:nvPr/>
        </p:nvSpPr>
        <p:spPr>
          <a:xfrm>
            <a:off x="785880" y="1643040"/>
            <a:ext cx="7643880" cy="4143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5"/>
          <p:cNvSpPr/>
          <p:nvPr/>
        </p:nvSpPr>
        <p:spPr>
          <a:xfrm>
            <a:off x="2857680" y="1143000"/>
            <a:ext cx="3714480" cy="1214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овет молодых уч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6"/>
          <p:cNvSpPr/>
          <p:nvPr/>
        </p:nvSpPr>
        <p:spPr>
          <a:xfrm>
            <a:off x="2857680" y="5143680"/>
            <a:ext cx="4071600" cy="1071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овет настав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Блок-схема: альтернативный процесс 7"/>
          <p:cNvSpPr/>
          <p:nvPr/>
        </p:nvSpPr>
        <p:spPr>
          <a:xfrm>
            <a:off x="500040" y="3143160"/>
            <a:ext cx="2571840" cy="121464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сихолог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цен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Блок-схема: альтернативный процесс 8"/>
          <p:cNvSpPr/>
          <p:nvPr/>
        </p:nvSpPr>
        <p:spPr>
          <a:xfrm>
            <a:off x="6072120" y="3143160"/>
            <a:ext cx="2571840" cy="114300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оциокультур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ооб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9"/>
          <p:cNvSpPr/>
          <p:nvPr/>
        </p:nvSpPr>
        <p:spPr>
          <a:xfrm>
            <a:off x="3286080" y="2643120"/>
            <a:ext cx="2571840" cy="2143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ГМ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Блок-схема: извлечение 10"/>
          <p:cNvSpPr/>
          <p:nvPr/>
        </p:nvSpPr>
        <p:spPr>
          <a:xfrm>
            <a:off x="1357200" y="2071800"/>
            <a:ext cx="1643040" cy="714240"/>
          </a:xfrm>
          <a:prstGeom prst="flowChartExtra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Блок-схема: извлечение 11"/>
          <p:cNvSpPr/>
          <p:nvPr/>
        </p:nvSpPr>
        <p:spPr>
          <a:xfrm>
            <a:off x="5929200" y="2071800"/>
            <a:ext cx="1785960" cy="785880"/>
          </a:xfrm>
          <a:prstGeom prst="flowChartExtra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Блок-схема: извлечение 12"/>
          <p:cNvSpPr/>
          <p:nvPr/>
        </p:nvSpPr>
        <p:spPr>
          <a:xfrm>
            <a:off x="1643040" y="4500720"/>
            <a:ext cx="1785960" cy="571320"/>
          </a:xfrm>
          <a:prstGeom prst="flowChartExtra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Блок-схема: извлечение 13"/>
          <p:cNvSpPr/>
          <p:nvPr/>
        </p:nvSpPr>
        <p:spPr>
          <a:xfrm>
            <a:off x="5929200" y="4429080"/>
            <a:ext cx="1785960" cy="571680"/>
          </a:xfrm>
          <a:prstGeom prst="flowChartExtra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071600" y="213840"/>
            <a:ext cx="507204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оевременно оказанная поддержка и разработанная система научно-методического сопровождения молодого учителя создает условия для снятия значительного числа, нагрузок и успешного вхождения в избранную профессию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держание понятий «научно-методическое сопровождение» и «поддержка» молодого учителя достаточно полно изучено в отечественной педагогике (Е.В. Бондаревская, Н.М. Борытко, О.С. Газман, В.Г.Гульчевская, Е.С. Маренцева,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картинки с шаттерстока\shutterstock_86079034.jpg"/>
          <p:cNvPicPr/>
          <p:nvPr/>
        </p:nvPicPr>
        <p:blipFill>
          <a:blip r:embed="rId1"/>
          <a:stretch/>
        </p:blipFill>
        <p:spPr>
          <a:xfrm>
            <a:off x="0" y="214200"/>
            <a:ext cx="4000680" cy="6643800"/>
          </a:xfrm>
          <a:prstGeom prst="rect">
            <a:avLst/>
          </a:prstGeom>
          <a:ln w="0">
            <a:noFill/>
          </a:ln>
        </p:spPr>
      </p:pic>
      <p:sp>
        <p:nvSpPr>
          <p:cNvPr id="47" name="Скругленный прямоугольник 5"/>
          <p:cNvSpPr/>
          <p:nvPr/>
        </p:nvSpPr>
        <p:spPr>
          <a:xfrm>
            <a:off x="1428840" y="1071720"/>
            <a:ext cx="2143080" cy="1428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Bookman Old Style"/>
              </a:rPr>
              <a:t>Засу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Bookman Old Style"/>
              </a:rPr>
              <a:t>рук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и всех</a:t>
            </a:r>
            <a:r>
              <a:rPr b="1" i="1" lang="ru-RU" sz="24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Bookman Old Style"/>
              </a:rPr>
              <a:t>за пояс  заткн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0" name="Picture 4" descr="C:\Users\Region\Desktop\картинки с шаттерстока\shutterstock_1104854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3580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2700360" y="4000680"/>
            <a:ext cx="44640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авная ц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мочь понять себ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обраться в причинах профессиональных пробл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развитие профессиональной компетент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дальнейше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мо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 rot="21063600">
            <a:off x="1976040" y="685440"/>
            <a:ext cx="264636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 rot="20642400">
            <a:off x="5095440" y="1395000"/>
            <a:ext cx="405288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УУ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ОТИВ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6"/>
          <p:cNvSpPr/>
          <p:nvPr/>
        </p:nvSpPr>
        <p:spPr>
          <a:xfrm rot="879000">
            <a:off x="182160" y="768240"/>
            <a:ext cx="21574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оддер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 rot="823200">
            <a:off x="4655880" y="549000"/>
            <a:ext cx="2448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сихолог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едагог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технолог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од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2627280" y="620640"/>
            <a:ext cx="21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учно-методическое сопровождение молодого специалиста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3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ерьёзное внимание н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осударственн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916360" y="1052640"/>
            <a:ext cx="597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II Всероссийский съезд молодых учителей «Молодой учитель - школе будущего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российского исследования эффективных моделей адапта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репления и профессионального развития молодых педагог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ональный семинар на тем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 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пешная адаптация и профессиональное развитие педагогов Ростовской област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ональная программа «Научно-методическое сопровождение и поддержка молодого учителя по освоению профессионального стандарта "Педагог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рамках реализации Комплексной программы повышения профессионального уровня педагогических работников общеобразовательных организа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shutterstock_49072459"/>
          <p:cNvPicPr/>
          <p:nvPr/>
        </p:nvPicPr>
        <p:blipFill>
          <a:blip r:embed="rId1"/>
          <a:stretch/>
        </p:blipFill>
        <p:spPr>
          <a:xfrm>
            <a:off x="179280" y="981000"/>
            <a:ext cx="273708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 и задачи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0" y="549360"/>
          <a:ext cx="9144000" cy="6583320"/>
        </p:xfrm>
        <a:graphic>
          <a:graphicData uri="http://schemas.openxmlformats.org/drawingml/2006/table">
            <a:tbl>
              <a:tblPr/>
              <a:tblGrid>
                <a:gridCol w="1187280"/>
                <a:gridCol w="795672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фективной региональной системы поддержки и опровождения профессионального становления молодого учителя (Школа молодого учителя) в процессе освоения профессионального стандарта «Педагог» в рамках реалиации «Комплексной программы повышения профессионального уровня педагогических работников общеобразовательных организаций»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912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ить разработку организационно-управленческой структуры научно- методического, практико-педагогического сопровождения и поддержки профессионального становления молодого учителя в рамках региональной системы Школа молодого учителя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йствовать созданию территориальных (муниципальных и районных) Школ молодого учителя, организации деятельности Школ по сопровождению и поддержке молодого учителя, их взаимодействию по обмену опытом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аботать инструментарий мониторинга уровня освоения молодыми специалистами профессионального стандарта «Педагог» и степени их готовности к осуществлению педагогической деятельности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аботать методические рекомендаций по обеспечению условий повышения профессиональной и педагогической компетентности молодых учителей в рамках профессионального стандарта «Педагог»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ить распространение лучшего опыта поддержки и сопровождения профессионального становления молодого учител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правление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765000"/>
          <a:ext cx="9144000" cy="4505400"/>
        </p:xfrm>
        <a:graphic>
          <a:graphicData uri="http://schemas.openxmlformats.org/drawingml/2006/table">
            <a:tbl>
              <a:tblPr/>
              <a:tblGrid>
                <a:gridCol w="539640"/>
                <a:gridCol w="860436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я региональной системы Школа молодого учителя в качестве базовой основы научно-методического сопровождения и поддержки профессионального становления молодого учителя в процессе освоения профессионального стандарта «Педагог»;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здание системы сетевого взаимодействия всех участников Школы молодого учителя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аботка инструментария мониторинга уровня освоения молодыми специалистами профессионального стандарта «Педагог» и степени их готовности к осуществлению педагогической деятельности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семинация опыта сопровождения и поддержки молодого учителя по освоению профессионального стандарта «Педагог» в рамках реализации «Комплексной программы повышения профессионального уровня педагогических работников общеобразовательных организаций»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48000" y="765000"/>
            <a:ext cx="5508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ологическая основа научно-методического сопровождения профессионально- педагогического становления молодого учит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исследованы современные условия развития инновационной культуры педагога в системе повышения квалифик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систематизированы инновационные технологии индивидуально-личностного развития обучающихся в условиях введения ФГО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писан опыт практического применения методов и технологий педагогического сопровождения и поддержки индивидуально- личностного развития обучающихся в урочной и внеуроч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создан практико-ориентированный педагогический инструментарий мониторинга эффективности стажировочной практики в условиях инновационной системы повышения квалифика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shutterstock_105568664"/>
          <p:cNvPicPr/>
          <p:nvPr/>
        </p:nvPicPr>
        <p:blipFill>
          <a:blip r:embed="rId1"/>
          <a:stretch/>
        </p:blipFill>
        <p:spPr>
          <a:xfrm>
            <a:off x="0" y="907920"/>
            <a:ext cx="3419640" cy="55990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0" y="3284640"/>
            <a:ext cx="30592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 ба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БОУ Д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О РИНК и ПП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зработ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ормативно-правовые стратег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907640" y="692280"/>
            <a:ext cx="6985080" cy="595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й закон «Об образовании в Российской Федерации» (от 29.12.2012№ 27Э-ФЗ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ая целевая программа развития образования на 2011 -2015 гг. (Распоряжение Правительства Российской Федерации от 7 февраля 2011 г. № 163-р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ая программа Российской Федерации «Развитие образования» на2013-2020 гг. (Постановление Правительства РФ от 15 апреля 2014 г. № 29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Комплексная программа повышения профессионального уровня педагогических работников общеобразовательных организац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остановление Правительства Ф от 28.05.2014 № 3241 п-П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ессиональный стандарт «Педагог» (педагогическая деятельность в сфере дошкольного, начального общего, основного общего, среднего общего образования) воспитатель, учитель) (Приказ Минтруда России от 18.10.2013 г. № 544н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E:\картинки с шаттерстока\shutterstock_74586232.jpg"/>
          <p:cNvPicPr/>
          <p:nvPr/>
        </p:nvPicPr>
        <p:blipFill>
          <a:blip r:embed="rId1"/>
          <a:stretch/>
        </p:blipFill>
        <p:spPr>
          <a:xfrm>
            <a:off x="179280" y="1330200"/>
            <a:ext cx="2016360" cy="552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285840"/>
            <a:ext cx="8229600" cy="17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ff"/>
                </a:solidFill>
                <a:latin typeface="Arial"/>
              </a:rPr>
              <a:t>Структурно-функциональная модель региональной системы Школа молодого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3"/>
          <p:cNvSpPr/>
          <p:nvPr/>
        </p:nvSpPr>
        <p:spPr>
          <a:xfrm>
            <a:off x="2286000" y="1143000"/>
            <a:ext cx="4929120" cy="1000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низ 4"/>
          <p:cNvSpPr/>
          <p:nvPr/>
        </p:nvSpPr>
        <p:spPr>
          <a:xfrm>
            <a:off x="4143240" y="2357280"/>
            <a:ext cx="119880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369880" y="2994840"/>
            <a:ext cx="4546440" cy="1010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рганизационно-управленческая поддержка  ММЦ, РО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трелка вниз 6"/>
          <p:cNvSpPr/>
          <p:nvPr/>
        </p:nvSpPr>
        <p:spPr>
          <a:xfrm>
            <a:off x="4071960" y="4357800"/>
            <a:ext cx="1428840" cy="357120"/>
          </a:xfrm>
          <a:prstGeom prst="downArrow">
            <a:avLst>
              <a:gd name="adj1" fmla="val 50000"/>
              <a:gd name="adj2" fmla="val 4661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7"/>
          <p:cNvSpPr/>
          <p:nvPr/>
        </p:nvSpPr>
        <p:spPr>
          <a:xfrm>
            <a:off x="785880" y="4857840"/>
            <a:ext cx="7929360" cy="14288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Компетентностное становление начинающих педагогов в пространстве региональной системы Школа молодого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8"/>
          <p:cNvSpPr/>
          <p:nvPr/>
        </p:nvSpPr>
        <p:spPr>
          <a:xfrm>
            <a:off x="2286000" y="1071720"/>
            <a:ext cx="4929120" cy="1071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Научно-методическое сопровождение ГБОУ ДПО РО РИПК и ПП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03:39:25Z</dcterms:created>
  <dc:creator>Пользователь</dc:creator>
  <dc:description/>
  <dc:language>en-US</dc:language>
  <cp:lastModifiedBy>метод2</cp:lastModifiedBy>
  <dcterms:modified xsi:type="dcterms:W3CDTF">2015-12-15T08:43:38Z</dcterms:modified>
  <cp:revision>32</cp:revision>
  <dc:subject/>
  <dc:title>Слайд 1</dc:title>
</cp:coreProperties>
</file>